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B4F-F5C3-40FF-AC41-E96402AC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4DF-284B-4F3E-ABE7-BCDB2E16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C2E1-ED44-4D50-96E0-4A740071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856-A92C-48BC-8A4E-72D6A561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442-0401-40EE-9421-D3868167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9E3-0D50-4910-8FF9-02B5C571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F11-2AA7-444B-AAC0-66BC64A1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B77-7D6C-4F70-A7A9-5C55AB8B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D5A-1D46-428D-BAC8-B7509D0E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82F-4A4E-4FC1-BC3B-B61EF3DF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3F7-DE66-4BC0-ABD8-6BBEADC1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66B-4995-4B28-8926-B8886E56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93F1-F222-4294-8585-FCFBDAE3A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7:35:01Z</dcterms:created>
  <dc:creator>abeason</dc:creator>
  <dc:description/>
  <dc:language>en-US</dc:language>
  <cp:lastModifiedBy>abeason</cp:lastModifiedBy>
  <dcterms:modified xsi:type="dcterms:W3CDTF">2008-10-27T17:35:06Z</dcterms:modified>
  <cp:revision>1</cp:revision>
  <dc:subject/>
  <dc:title>Slide 1</dc:title>
</cp:coreProperties>
</file>